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2DA-FEE6-4F35-AE6C-B9B7FE7C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0F1-0275-4D2F-9FD1-840AA809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24A-124A-4DBB-B0EA-A8946605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455-9E88-431B-B982-DBA2B38F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E6C4-C9F0-406F-AD99-861D4F5B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24E9-658D-410B-B32D-8C803981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4E36-AE12-4564-988D-1A4D582F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051E-A473-4428-BEAB-339537D4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4762-65E7-4246-806E-0795122D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AE6E-0109-4984-89C1-3448CC21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03EA-B851-4884-9E1B-6D47964E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B92-0AE3-4399-89C3-D1773760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6B10-0D79-4F01-BC37-2DB38A93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54CD-1940-47D8-8CD3-CBE691F4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9019-76E5-4472-A47D-24C685EE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89C6-D09F-4F38-AE86-89896C73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80BA-6758-4CF1-85B4-9CB8C25C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D02AE-1117-4382-8360-34B1A281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C8F1-1FDD-408B-8B7A-23AD9508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F287F-A659-490A-9373-BAD47E27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B9D14-8951-439B-97EB-FD11DAA8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B678-D824-43D6-980A-F55CA90A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FFA-0F54-495B-B30C-C79EFFD2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933D3-3ED3-4E1D-BA9C-B1E3AF48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02A9C-42C3-4DB2-9454-B69263A5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3EF52-4DF8-4458-88C0-97660BFD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6F106-0DAD-4177-AD25-4EC837AF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56643-27FF-49D3-A6B5-E2E3B090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C1EB3-C355-44EB-A99D-DAFB4C22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8FD92-789E-4F3A-8CC3-7DBDE0C9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BA3D7-9977-4C65-ABD2-4A347B5F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9E47-B633-4FB5-A2FA-6AB749EE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605AC-07B8-4C73-BB6B-267D021F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6C6-042F-4DD0-A799-CD1BEB4E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6D823-8709-43C9-98B9-5F2EAF71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16FFB-9AD4-416B-BDE7-FA1014D4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84DC3-9316-4C92-BEB8-620B04F0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AEAB7-01C5-489E-A496-E7E99A74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B3C27-BBFD-4CD9-8745-0590BCF9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5AFDF-11DE-4D1E-B900-7876CE81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C52F1-1F96-41CA-AD82-F0CFB6D2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54711-ABDA-4C36-A05A-0E4AD676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C8A48-9CD0-4C6E-8029-6EA97675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BD2E2-E0FE-4680-BBB4-BEF5ACBC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C0D-CBB1-43ED-A564-7B34C39C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8A3D6-FB60-47B9-9262-EE39A792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F4D0F-A8D7-42CB-A905-111B4ACF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30A6E-6375-4529-B2F9-58FCD712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061F8-2E7F-48A7-9326-AE3A473D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AC21E-AB5A-4DF1-8610-9BA64F3C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5A0DB-D32E-404C-AE33-ACCCEA02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AEA4C-0DFD-46FA-9C74-5A893ECC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6141E-F8F4-4B75-97B7-7C25C8A5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4E95F-45D1-46D6-AB47-6F875D4B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E551B-C268-4A2F-8E48-CB6532CF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73F-555C-4492-B5F1-EDE1D616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1EABB-AF02-4172-8D32-71565298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174C2-817A-4303-8904-F4A736EB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FB597-742F-4177-8828-C4940DEB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CF0A1-1DB7-442C-B522-16FFA332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8E255-654B-4CFF-9E2C-CF130AAE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448F78-B114-4650-A19F-433A7C9A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037042-60ED-43AA-BE28-F2556F4D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ABC2E1-E50A-4EE6-A21F-4F3CC03E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34FBD5-2E97-436C-8D2F-AAEBD922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B64742-6719-4328-AFED-8CBE7CAB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2B3-9AF2-409D-9997-DAD4C4E4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61ABCD-EC28-4929-B30C-98313324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6E7C9A-ABF5-4E3E-BD16-BBB523BA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8A61C-5044-46E6-851F-0059DB8A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1C5-1975-4409-9012-06D84693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E2B-849A-4002-BE31-EE82D621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66B3-DDE9-4731-B8C3-BE1527EF71B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EBF4-DFC3-4B45-8086-F4A0F9F68AB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5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A267-2EA2-49BF-B757-822AFC0EA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49BD-0842-45F0-B41E-ABF5400D1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5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5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6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7DD4-6034-40B6-A5E0-DF66ED0915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0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1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71CB-2AEB-4851-B179-33E522A64B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 comida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Mitch Win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Desayu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 gusta como panqueques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095880" y="2800440"/>
            <a:ext cx="2743200" cy="4057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6842160" y="1828800"/>
            <a:ext cx="176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e gusta como Zumo de naranj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coca co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2861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7:43:31Z</dcterms:created>
  <dc:creator>wintermit</dc:creator>
  <dc:description/>
  <dc:language>en-US</dc:language>
  <cp:lastModifiedBy>wintermit</cp:lastModifiedBy>
  <dcterms:modified xsi:type="dcterms:W3CDTF">2012-04-04T18:08:43Z</dcterms:modified>
  <cp:revision>4</cp:revision>
  <dc:subject/>
  <dc:title>Slide 1</dc:title>
</cp:coreProperties>
</file>